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  <p:sldId id="279" r:id="rId5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slide" Target="slides/slide2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ftr" idx="1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7E9E-1FFF-4502-8DED-9B55CA5F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7CD0-EE29-47C2-8DDD-5880E944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C58-06CF-4D1E-ABB8-E7473191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4C3-AA09-47CF-860B-F752EF09A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48D-6F99-46BE-A93E-EAD7A0BCF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E53-0133-443D-A254-D2A9687FC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8DD-2D0B-4E5D-B445-1518567A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E7D-0262-4158-996F-61ED1EEAF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B258-1B5D-47ED-BDEF-4B2C015B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53F-66CF-47CD-BCB6-65F0AAC7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72E-C583-46F7-9FBB-A473884B4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B438-0D5B-46CD-8C8C-BC5660E1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77A-4820-412F-A87F-D652F227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AA0-143A-463D-BFC5-A55F4687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B5F1-1A6A-4B13-B4D7-9AFC0F5F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B3AA-B17A-4A45-88F7-FE954F185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170-E063-456C-B590-97A1428C3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DD0A-63E5-4046-AE35-88059270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4EE-9BCE-42B7-A638-C72FBDE8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7001-D198-456F-A83A-E627846E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5B3A-DD58-4792-B60C-63A6448B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52A-F595-43CC-B09F-E6372879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8463-6941-408A-9BDD-E97A71A5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8BD-A7B5-43E9-AAD3-E172EFC30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5033-33E5-4B23-9824-C47591D1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7691-66C1-4CDD-A0B1-E3032FA20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CBCC-20AF-45C9-94A2-68F02253B3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814B-0DF4-41A4-8130-08BEC96EFBC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D67E-4E0A-43DF-A9F6-00D9A068AB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1A45-5192-43DA-99D2-D11B34963A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33EC-57A7-4434-BF96-F2AABBDF03A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8D4F-EB6B-4DD2-861E-C4CF3FEF2F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3555-56CF-4255-9336-1A5C20F70C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F033-D978-4EFB-ACBB-6697EA589FF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EF0E-39CF-45D2-A872-EB671562A48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06D2-4AE9-468D-9257-14ED873A12E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F6D-5AA8-47BA-A868-024C271F3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071E-5AD9-4807-BE4C-A44CE2445C1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072D-FF70-4AE1-A95A-25F62EA2473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9C82-530E-4B47-AB36-E7344A17A75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0D5D-299B-4F3B-BB1B-DAB9E3D19FB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9AE5-B162-4438-AE7E-CB19D95FA61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75F-9CE6-4B21-A0CC-44256F64639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7C5-188E-4052-997D-786C2841070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7CB-0210-434F-968F-C885EED9563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A8E-7F4A-4BC6-ABDD-004256CDDCC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156-D6BA-4667-8C9C-60F4F7F9CEF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FDF1-D5FA-4854-AD09-56FBA8E465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AFF-2E99-4C77-9D74-854D3C6525E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2E6-7266-40B4-8674-374D0789991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293-AC9B-444C-B657-90CDDB4A833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8D3-E769-4340-909E-EF3B456CCC2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625-84EF-450B-BABC-E5123E76243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A71-E429-4EE2-8E00-70DC8355E3B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656-E00A-49C3-BBBB-8A98D9A69D9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CC8B-782D-4CB7-A6C6-52D34FD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13BF-C6CF-41BF-9624-56E73EFA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97A5-FD27-4AEE-9560-4F5BBAC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5FEF-F493-4BF8-A315-12CD2C1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1DC0-4C5B-43D5-8CEB-9C4ED6D3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F0BB3-C25C-4D8C-932C-82C9E86A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6420C-4C9A-48B3-958E-48A9550F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AC09-867C-49E5-8C0E-5CC89DE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57E5-47D7-46A1-A5E2-03CAAF5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C37D-64FD-4601-8435-DEBD647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D0D7-E146-4ABC-A479-4466B63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4555-0829-4A9F-A6FF-EA59821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43DE-A311-4F19-B38B-44E16822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283B-435A-4C5F-AABE-0E4F3BDD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7449-8653-4B1A-9E56-A8AF200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B53D-E92B-4BD0-9CE7-359154EB8F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2E5B-F3A0-48DE-BEAD-6B1959D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F09-8900-4FEE-A109-0D67E526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0E4D-2ED6-4C2A-A0A2-722BF73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4B1-5C01-405F-AF53-0EB4D44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5B5E-BC81-45A0-807A-8BC9B63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B1C-15CB-4E8F-9014-01746C2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FA3-2005-4C57-8611-EC43B4E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9660-0142-4BF0-8D87-401797B5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15C-9C00-446B-B23A-B160AED8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D41B-441C-44E1-A88E-FB28A9EC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DE21-FB44-4EA7-B172-0314BCBB70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928E-09AF-47C3-9A75-F18DF7E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F7B7-9B8B-4E7A-AD02-5E1FC128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FE20-E2F5-4722-9FAC-9A60A51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EEA2-F644-4501-8A2D-28DCDF3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CCE0-3AFB-4C4A-BE61-DEEBB67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E3EE-88B4-4D73-AC4D-733B9BC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9082-B5ED-4458-99BE-83CE453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42A7-E4C6-4614-99FA-0C968AE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4297-6642-4FAA-8412-F39DFA5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FE24-D95D-4E28-8DA5-2F779E57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C73-BF99-4DC5-90C9-B17D080160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F0E7-9063-4482-BCCA-F3044B31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7EE4-EBEB-4A20-B59E-6249F43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AF6C-FD6E-45E4-8609-DEBC2DF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41F8-4814-4697-AA4F-E1478741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E01F-D6D2-402F-B8FE-CB540DFE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90EB-AC36-4118-96DD-F93227B7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F43A-BE58-43AA-936A-E5B7C771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0E9A-24E6-483A-87C1-DEDF91E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3611-0BEF-4B7C-A55F-107732F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3FCE-64C9-4D94-8FFE-6CB2702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4DA2-3110-46DA-95EF-777F9F4268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66CC-986D-43F9-A9E1-E79605A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497F-1AE5-4016-8955-46331BBE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A4E2-7C74-43EE-8146-D35C39CA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35C4-1C4F-4ED1-884D-FE543DD48D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D463-DEE4-430D-BCE2-9BDFAD1A93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44AB-BE2F-451E-9A3D-9CD9EDFAD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C60D-E2F4-4B61-9173-D178730CD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3CE-AEF7-487C-B57D-1DC266B87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A58-D24B-4D69-B892-9C84A8473B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4C82-E62D-4E4A-9F33-6F3E449A92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35D-32F4-43D4-9B6C-FDBF0C154F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924-B53B-4B05-8282-D821AF0C37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7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mporary hold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s checks and credit card receipts before they are deposi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choic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up with other Undeposited Funds (defaul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osit to bank accou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roup with other Undeposited Fund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be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es reconciliation of bank accounts easi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6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1" name="Object 5"/>
          <p:cNvGraphicFramePr/>
          <p:nvPr/>
        </p:nvGraphicFramePr>
        <p:xfrm>
          <a:off x="1638360" y="1600200"/>
          <a:ext cx="58672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600200"/>
                    <a:ext cx="5867280" cy="44290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 txBox="1"/>
          <p:nvPr/>
        </p:nvSpPr>
        <p:spPr>
          <a:xfrm>
            <a:off x="457200" y="16765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Invoices to record sales to your credit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75" name="Picture 4" descr="C:\Users\DPEMBR~1\AppData\Local\Temp\SNAGHTML141218d6.PNG"/>
          <p:cNvPicPr/>
          <p:nvPr/>
        </p:nvPicPr>
        <p:blipFill>
          <a:blip r:embed="rId2"/>
          <a:stretch/>
        </p:blipFill>
        <p:spPr>
          <a:xfrm>
            <a:off x="3657600" y="1496880"/>
            <a:ext cx="521964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eiving Payments by Chec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dling Partial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eiving Payments by Credit Car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 the Payments Go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ferences for Applying Payments and Automatically Calculate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ing Customer Discoun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 txBox="1"/>
          <p:nvPr/>
        </p:nvSpPr>
        <p:spPr>
          <a:xfrm>
            <a:off x="45684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0" name="Picture 4" descr="C:\Users\DPEMBR~1\AppData\Local\Temp\SNAGHTML145fdfdd.PNG"/>
          <p:cNvPicPr/>
          <p:nvPr/>
        </p:nvPicPr>
        <p:blipFill>
          <a:blip r:embed="rId2"/>
          <a:stretch/>
        </p:blipFill>
        <p:spPr>
          <a:xfrm>
            <a:off x="3886200" y="1600200"/>
            <a:ext cx="48769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o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ave the invoice ope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rite off the unpaid am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3" name="Picture 5" descr=""/>
          <p:cNvPicPr/>
          <p:nvPr/>
        </p:nvPicPr>
        <p:blipFill>
          <a:blip r:embed="rId2"/>
          <a:stretch/>
        </p:blipFill>
        <p:spPr>
          <a:xfrm>
            <a:off x="1273320" y="3276720"/>
            <a:ext cx="6597360" cy="30477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8"/>
          <p:cNvSpPr/>
          <p:nvPr/>
        </p:nvSpPr>
        <p:spPr>
          <a:xfrm>
            <a:off x="1066680" y="4724280"/>
            <a:ext cx="3353040" cy="14479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data into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eived From, Amount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iel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mt. Method, enter the Credit Card payment method, credit card number and Exp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posited F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less you turned off “Use Undeposited Funds as a default deposit to account” prefer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does not increase your bank balance when you receive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have payments show up in your bank account, you mus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ke Deposits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8" descr="C:\Users\DPEMBR~1\AppData\Local\Temp\SNAGHTML146448ae.PNG"/>
          <p:cNvPicPr/>
          <p:nvPr/>
        </p:nvPicPr>
        <p:blipFill>
          <a:blip r:embed="rId1"/>
          <a:stretch/>
        </p:blipFill>
        <p:spPr>
          <a:xfrm>
            <a:off x="4595760" y="2449440"/>
            <a:ext cx="4372200" cy="2992680"/>
          </a:xfrm>
          <a:prstGeom prst="rect">
            <a:avLst/>
          </a:prstGeom>
          <a:ln w="0">
            <a:noFill/>
          </a:ln>
        </p:spPr>
      </p:pic>
      <p:pic>
        <p:nvPicPr>
          <p:cNvPr id="1490" name="Rectangle 2" descr=""/>
          <p:cNvPicPr/>
          <p:nvPr/>
        </p:nvPicPr>
        <p:blipFill>
          <a:blip r:embed="rId2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 txBox="1"/>
          <p:nvPr/>
        </p:nvSpPr>
        <p:spPr>
          <a:xfrm>
            <a:off x="45684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tomatically Apply Payments setting in Payments Company Preferences allows QuickBooks to match the payment with invoices automatical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2" name="Rectangle 11"/>
          <p:cNvSpPr/>
          <p:nvPr/>
        </p:nvSpPr>
        <p:spPr>
          <a:xfrm>
            <a:off x="5506920" y="27432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4057560" y="2743200"/>
            <a:ext cx="1449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4"/>
          <p:cNvSpPr/>
          <p:nvPr/>
        </p:nvSpPr>
        <p:spPr>
          <a:xfrm>
            <a:off x="8402760" y="2743200"/>
            <a:ext cx="53172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Picture 16" descr=""/>
          <p:cNvPicPr/>
          <p:nvPr/>
        </p:nvPicPr>
        <p:blipFill>
          <a:blip r:embed="rId3"/>
          <a:srcRect l="22588" t="69708" r="15294" b="12126"/>
          <a:stretch/>
        </p:blipFill>
        <p:spPr>
          <a:xfrm>
            <a:off x="4057560" y="5181480"/>
            <a:ext cx="487692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ount and Credits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bottom side of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eive Pay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calculates a suggested discount based on the ter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98" name="Picture 6" descr=""/>
          <p:cNvPicPr/>
          <p:nvPr/>
        </p:nvPicPr>
        <p:blipFill>
          <a:blip r:embed="rId2"/>
          <a:stretch/>
        </p:blipFill>
        <p:spPr>
          <a:xfrm>
            <a:off x="998640" y="4343400"/>
            <a:ext cx="7146720" cy="1752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99" name="Oval 9"/>
          <p:cNvSpPr/>
          <p:nvPr/>
        </p:nvSpPr>
        <p:spPr>
          <a:xfrm>
            <a:off x="4038480" y="5181480"/>
            <a:ext cx="1676520" cy="38124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company 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customer records in the 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income and expenses by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Sales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Undeposited Funds account to track your cash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Invoices and Payments from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bank deposits of cash, check, and credit card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ositing Checks and Ca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lding Cash Back from Deposi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ing Deposit Slip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ositing Credit Card Paym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ensure that your bank reconciliations go smoothly, you should always deposit your checks and cash separately from your credit card pay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4" name="Picture 4" descr="C:\Users\DPEMBR~1\AppData\Local\Temp\SNAGHTML2b54585.PNG"/>
          <p:cNvPicPr/>
          <p:nvPr/>
        </p:nvPicPr>
        <p:blipFill>
          <a:blip r:embed="rId2"/>
          <a:stretch/>
        </p:blipFill>
        <p:spPr>
          <a:xfrm>
            <a:off x="1447920" y="3886200"/>
            <a:ext cx="62481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the bottom part of the deposit slip indicating the account to which you want to post the ca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2"/>
          <a:stretch/>
        </p:blipFill>
        <p:spPr>
          <a:xfrm>
            <a:off x="573120" y="3505320"/>
            <a:ext cx="7997760" cy="175248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 card processing companies can charge discount fees on each credit card depos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Math to calculate fee on depos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10" name="Picture 5" descr="C:\Users\DPEMBR~1\AppData\Local\Temp\SNAGHTML18006d.PNG"/>
          <p:cNvPicPr/>
          <p:nvPr/>
        </p:nvPicPr>
        <p:blipFill>
          <a:blip r:embed="rId2"/>
          <a:stretch/>
        </p:blipFill>
        <p:spPr>
          <a:xfrm>
            <a:off x="282600" y="4572000"/>
            <a:ext cx="857880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company s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customer records in the 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 income and expenses by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Sales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Undeposited Funds account to track your cash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Invoices and Payments from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bank deposits of cash, check, and credit card receip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les Receip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sh custom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ic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dit Custom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track detailed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3" descr="C:\Users\DPEMBR~1\AppData\Local\Temp\SNAGHTML5278502.PNG"/>
          <p:cNvPicPr/>
          <p:nvPr/>
        </p:nvPicPr>
        <p:blipFill>
          <a:blip r:embed="rId2"/>
          <a:stretch/>
        </p:blipFill>
        <p:spPr>
          <a:xfrm>
            <a:off x="1496880" y="1704960"/>
            <a:ext cx="61502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3" descr="C:\Users\DPEMBR~1\AppData\Local\Temp\SNAGHTMLf640129.PNG"/>
          <p:cNvPicPr/>
          <p:nvPr/>
        </p:nvPicPr>
        <p:blipFill>
          <a:blip r:embed="rId2"/>
          <a:stretch/>
        </p:blipFill>
        <p:spPr>
          <a:xfrm>
            <a:off x="1469880" y="1576440"/>
            <a:ext cx="62042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1" name=""/>
          <p:cNvGraphicFramePr/>
          <p:nvPr/>
        </p:nvGraphicFramePr>
        <p:xfrm>
          <a:off x="1143000" y="1600200"/>
          <a:ext cx="6705720" cy="4734000"/>
        </p:xfrm>
        <a:graphic>
          <a:graphicData uri="http://schemas.openxmlformats.org/drawingml/2006/table">
            <a:tbl>
              <a:tblPr/>
              <a:tblGrid>
                <a:gridCol w="1230480"/>
                <a:gridCol w="1153800"/>
                <a:gridCol w="1390680"/>
                <a:gridCol w="1082880"/>
                <a:gridCol w="1847880"/>
              </a:tblGrid>
              <a:tr h="5493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usines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ash Customer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Pay by cash, check or credit card at time of s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redit Customer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Pay on a date after the sale da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QuickBook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in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QuickBooks 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ing E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ustomer Estimat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(Optio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t Usually 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n-posting entry used to record estimates (bids) for customers or jo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Customer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Sales Order (Optional)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t Usually U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n-posting entry used to record customer ord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Recording a S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cred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om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s Receivab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cred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om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Receiving Money in Payment of an Inv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No additional action is required on the sales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Accounts Receivab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, increase (deb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positing Money in the 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Increase (deb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an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Account, 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Decrease (credit)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Undeposited Funds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increase (debit)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ban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ITC Stone Serif Std Medium"/>
                          <a:ea typeface="Arial Unicode MS"/>
                        </a:rPr>
                        <a:t> Accou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2" name="Rectangle 2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7000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3"/>
          <p:cNvSpPr/>
          <p:nvPr/>
        </p:nvSpPr>
        <p:spPr>
          <a:xfrm>
            <a:off x="998640" y="167328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4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"/>
          <p:cNvSpPr/>
          <p:nvPr/>
        </p:nvSpPr>
        <p:spPr>
          <a:xfrm>
            <a:off x="998640" y="167328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"/>
          <p:cNvSpPr/>
          <p:nvPr/>
        </p:nvSpPr>
        <p:spPr>
          <a:xfrm>
            <a:off x="998640" y="167328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79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8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87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91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94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Group 551"/>
          <p:cNvGrpSpPr/>
          <p:nvPr/>
        </p:nvGrpSpPr>
        <p:grpSpPr>
          <a:xfrm>
            <a:off x="2590920" y="2514600"/>
            <a:ext cx="3276000" cy="3657240"/>
            <a:chOff x="2590920" y="2514600"/>
            <a:chExt cx="3276000" cy="3657240"/>
          </a:xfrm>
        </p:grpSpPr>
        <p:pic>
          <p:nvPicPr>
            <p:cNvPr id="1446" name="Picture 335" descr=""/>
            <p:cNvPicPr/>
            <p:nvPr/>
          </p:nvPicPr>
          <p:blipFill>
            <a:blip r:embed="rId2"/>
            <a:stretch/>
          </p:blipFill>
          <p:spPr>
            <a:xfrm>
              <a:off x="5193720" y="251460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334" descr=""/>
            <p:cNvPicPr/>
            <p:nvPr/>
          </p:nvPicPr>
          <p:blipFill>
            <a:blip r:embed="rId3"/>
            <a:stretch/>
          </p:blipFill>
          <p:spPr>
            <a:xfrm>
              <a:off x="5193720" y="323172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333" descr=""/>
            <p:cNvPicPr/>
            <p:nvPr/>
          </p:nvPicPr>
          <p:blipFill>
            <a:blip r:embed="rId4"/>
            <a:stretch/>
          </p:blipFill>
          <p:spPr>
            <a:xfrm>
              <a:off x="2590920" y="405648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332" descr=""/>
            <p:cNvPicPr/>
            <p:nvPr/>
          </p:nvPicPr>
          <p:blipFill>
            <a:blip r:embed="rId5"/>
            <a:stretch/>
          </p:blipFill>
          <p:spPr>
            <a:xfrm>
              <a:off x="5193720" y="405648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Picture 331" descr="rec pymts icon"/>
            <p:cNvPicPr/>
            <p:nvPr/>
          </p:nvPicPr>
          <p:blipFill>
            <a:blip r:embed="rId6"/>
            <a:stretch/>
          </p:blipFill>
          <p:spPr>
            <a:xfrm>
              <a:off x="5193720" y="484524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Picture 330" descr="depositicon"/>
            <p:cNvPicPr/>
            <p:nvPr/>
          </p:nvPicPr>
          <p:blipFill>
            <a:blip r:embed="rId7"/>
            <a:stretch/>
          </p:blipFill>
          <p:spPr>
            <a:xfrm>
              <a:off x="5193720" y="5562360"/>
              <a:ext cx="67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Picture 329" descr="depositicon"/>
            <p:cNvPicPr/>
            <p:nvPr/>
          </p:nvPicPr>
          <p:blipFill>
            <a:blip r:embed="rId8"/>
            <a:stretch/>
          </p:blipFill>
          <p:spPr>
            <a:xfrm>
              <a:off x="2590920" y="5562360"/>
              <a:ext cx="6732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3" name="Rectangle 345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350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354"/>
          <p:cNvSpPr/>
          <p:nvPr/>
        </p:nvSpPr>
        <p:spPr>
          <a:xfrm>
            <a:off x="957240" y="6397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357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362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366"/>
          <p:cNvSpPr/>
          <p:nvPr/>
        </p:nvSpPr>
        <p:spPr>
          <a:xfrm>
            <a:off x="957240" y="6397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369"/>
          <p:cNvSpPr/>
          <p:nvPr/>
        </p:nvSpPr>
        <p:spPr>
          <a:xfrm>
            <a:off x="957240" y="63972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1" name=""/>
          <p:cNvSpPr txBox="1"/>
          <p:nvPr/>
        </p:nvSpPr>
        <p:spPr>
          <a:xfrm>
            <a:off x="45684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en from the Icon ba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up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62" name="Picture 4" descr="C:\Users\DPEMBR~1\AppData\Local\Temp\SNAGHTML5445ff5.PNG"/>
          <p:cNvPicPr/>
          <p:nvPr/>
        </p:nvPicPr>
        <p:blipFill>
          <a:blip r:embed="rId2"/>
          <a:stretch/>
        </p:blipFill>
        <p:spPr>
          <a:xfrm>
            <a:off x="4111560" y="1371600"/>
            <a:ext cx="468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e jobs for each customer QuickBooks tracks jobs in addition to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s track income and expens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with repor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:Job – separated by col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: Cruz, Maria:Branch Ope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 txBox="1"/>
          <p:nvPr/>
        </p:nvSpPr>
        <p:spPr>
          <a:xfrm>
            <a:off x="456840" y="167652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when customers pay at the time of the sal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 &gt;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ter Sales Receip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History Pa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67" name="Picture 4" descr="C:\Users\DPEMBR~1\AppData\Local\Temp\SNAGHTMLf7f78a9.PNG"/>
          <p:cNvPicPr/>
          <p:nvPr/>
        </p:nvPicPr>
        <p:blipFill>
          <a:blip r:embed="rId2"/>
          <a:stretch/>
        </p:blipFill>
        <p:spPr>
          <a:xfrm>
            <a:off x="3048120" y="1752480"/>
            <a:ext cx="58006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39:01Z</dcterms:modified>
  <cp:revision>209</cp:revision>
  <dc:subject/>
  <dc:title>Chapter 2 Managing Revenue</dc:title>
</cp:coreProperties>
</file>